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C9AF-A41C-4EF0-A9D0-3B266C88F9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EE71-CEB4-428E-921C-9D4F053C1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6CEF-F5B1-4115-A248-625F3A38B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9A6F-36FD-4996-B013-BFF4D3503F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579B-4A23-448A-9D7C-456D07C6F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173A-9CCC-4CFB-BDBB-E1D44B31D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FCEF-E4C3-466C-9288-EACC28DFE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F47C-0820-46BB-B785-447E0EA3B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E240-8DA2-4CBD-93F7-CB64A8F88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1BB7-43B7-4E95-94EB-76D182E70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66A6-B63A-48B8-B6E5-5BB6E5D30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18F5-B2AF-41DC-8F01-A2F22D8D9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4D74-210F-4762-AB4A-A3B7AD34A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0613-0166-4DDF-BC6E-F578029F9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3E33-0BDE-459E-A978-CDCFE705E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9A4F-2B82-4BE5-830F-DA5224C4E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EACE-BC72-4284-AADA-2F8DFA129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B9CF-C2CD-4061-AA79-C916BEF16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8D96-E6A3-4A9D-9E1F-35668FEB0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8F47-AD52-45C3-AF20-6E2918CF0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A075-2BA2-454F-B0F6-E570B9CC2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71CD-A1DD-487E-85B3-705CAAE7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10A-97D5-4057-AC9F-9EDFB409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EA9-EC41-49F6-8418-C6F7FA23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7B4-60AD-4939-8B2A-8B9AC955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C5CF-858E-4649-BF97-DCBA0C0A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1A09-03E4-4E6A-9820-9B2E3368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4994-9BDD-478E-ACE0-7A200AA1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1DC0-951E-461B-97E8-51955248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688E-2AA9-42D3-B6FE-D1A02876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7D9B-84F2-4DE7-8694-C0C3B0E8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0B17-6DEF-435F-B892-A16F9657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C67-3B34-4522-AEB9-74FC65CA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77C7-DA3C-4F17-B786-7D128DC6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D0EB-FA24-4301-807C-F8C8393E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F523-8690-4FCB-9D24-36171ACF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ED23-A95C-4192-83C8-63DA7027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BE2C-E788-403E-949F-4FBDBBAA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3052C-6EFA-4823-8249-55BA2779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4B4A0-0413-4D5E-A4FD-C3EC6B6D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02E6A-0C53-471B-AC3C-4D6C3C86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1CB4A-CE02-4F23-A9E7-11319388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53A6-19E5-4241-BFD4-49A88310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F7B-17D0-49C0-A156-FC0A1CA0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A95E1-35B9-4CF2-849B-CFEDE043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09C82-C4EF-49DB-9172-1E7AC8E6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60AF0-2F47-4528-87A6-AB191EFE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ADAAC-51FC-465A-A6C0-715E3179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7EF0D-09F3-4E03-A330-1E80B720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E8BE4-4559-49EB-9B5C-421BDDC6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36299-C373-4E09-8164-7F251548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519CD-B06F-4DEB-9F61-04C45A7E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1B9A7-9451-4A12-A429-C4548B2E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63673-7207-464C-A742-75735EA4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C032-8A4F-4793-9825-F7E824E1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47FD7-B20F-44A1-A1B8-8318D859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6B92B-95E1-4CF2-B2F8-A63285C3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5091C-0A8E-4882-93B2-8762700B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F5EDD-94C2-46F0-A62E-8C631FB4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5A117-C4E3-49D9-9913-A1344BA1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82777-C96F-4F11-A976-3697CECA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EFBEC-B505-4A56-80C0-030A9344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CF552-F648-4890-ACEE-276E2A23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10A38-9B1B-4B49-9E0B-C50A1C12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6F6E3-AFDF-42A0-AD1A-3602B803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735-ED58-4440-A996-B20D28D5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C9B3C-5413-4CC2-A91A-22F57D2C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F5841-3544-4B1C-873A-694FFDE6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544DE-F024-4948-907A-16CA2C96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8F8D8-24DA-4246-9A83-0643D065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52C7F-3BC7-4085-831F-CD7687D0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58000-90E2-4DDA-85EE-142F6A35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10657-02CB-4A8A-A3C9-DBA579A0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68B44-8830-4F21-9F3F-1FFE678E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9076B-F8C1-45A1-8687-04B3CFB5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1211E-BC21-4623-B3BD-991ACD94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094-148B-4FC7-9608-258C8029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EFD97-D011-49E9-99CF-080CBCD2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DF498-4DF1-4DAB-A50C-A02A1C97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CA8B1-C4DC-4239-B56C-848270C2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0835D-4320-45C0-B4B1-02C4A0E0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BE7D6-3074-4DFB-A6CC-3057B3B6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6C2B4-212B-4921-A8F9-85380340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754B4-F41B-439F-96A5-5620EFC2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32689-453E-42F3-A19B-FB359599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8C5FF-115A-432F-B766-540B3896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AF66E-8D8A-4D60-A9AF-29D9362B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18E7-094F-4061-992D-00B6B1CC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95119-FC77-4486-9538-3B774A0E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67E02-964D-4CDD-A275-983B7445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E2261-B019-4F94-A7D2-51092773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C984E-7A16-4B7B-89B0-CF154A00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E2BB7-A4DE-4B91-956A-D76CA7AD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22EDA-8F3B-4406-94D4-7AED51C9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FD247-32F6-4976-92E0-3E882AD2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57B03-EBDD-475E-80D0-3690EA50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CB720-4D53-44BF-9F95-BC595D8F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1B21B-C152-4211-8570-8996FD10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C22-B670-4277-88D7-452C9192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0A710-F8B6-4403-8E41-EE9D59CF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8E836-9AB8-4F91-976E-8623A3A1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BAC0A-3B10-44F8-9DF8-47A8C7CD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C9303-8D61-4CD7-800E-939EEF50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0D998-312A-4B07-9DC0-44E594B7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FA3-BD6F-47BA-B4D1-FE517CB7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6AFE-A81D-47CE-A793-449E6A91B8E0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947A-ACCF-4A46-9797-31A0B4A0FFB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6C2D-58AD-46AD-9453-2AC9567DA006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00D9-6061-4814-B1F2-42733541740D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ED23-9A5F-47DA-B4D3-2CEC358FEAA2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B84C-6AFE-4CD4-9A4A-98D21636B98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6DEA-AB93-4677-8334-ADDA1868906A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7F7F-E15D-4351-8E35-E69FB2861DE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CA04-9E3B-412B-AA87-63DB52B04B1B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BB9C-BCB2-4461-8318-D3C7421EE53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6CD3-5ED3-4440-9272-3667FDA864BB}" type="datetime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4986-155C-4141-82CF-11564F55E6C4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344C-5975-46A5-B2AA-DE629DA0C4E6}" type="datetime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0843-286E-4F06-BC75-BF7483F472B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3" descr=""/>
          <p:cNvPicPr/>
          <p:nvPr/>
        </p:nvPicPr>
        <p:blipFill>
          <a:blip r:embed="rId1"/>
          <a:stretch/>
        </p:blipFill>
        <p:spPr>
          <a:xfrm>
            <a:off x="298440" y="-7920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hat percent of energy is transferred to organisms at the next level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73040" indent="-4730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hat happens to the percentage of energy that is not passed onto the next trophic level?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73040" indent="-4730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73040" indent="-4730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How much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73040" indent="-473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nergy is available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73040" indent="-473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t the secondary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73040" indent="-473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nsumer level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73040" indent="-473040">
              <a:spcBef>
                <a:spcPts val="751"/>
              </a:spcBef>
              <a:buClr>
                <a:srgbClr val="ff388c"/>
              </a:buClr>
              <a:buSzPct val="80000"/>
              <a:buFont typeface="Calibri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2"/>
          <a:stretch/>
        </p:blipFill>
        <p:spPr>
          <a:xfrm>
            <a:off x="3733920" y="2803680"/>
            <a:ext cx="5410080" cy="40543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7"/>
          <p:cNvSpPr/>
          <p:nvPr/>
        </p:nvSpPr>
        <p:spPr>
          <a:xfrm>
            <a:off x="4191120" y="5562720"/>
            <a:ext cx="838080" cy="3045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4495680" y="4724280"/>
            <a:ext cx="838440" cy="304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4495680" y="3581280"/>
            <a:ext cx="838440" cy="304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4 main types of processes move carbon through its cycle: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1.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 Biological 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processes: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Photosynthesis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takes up carbon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Respiration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releases carb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2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Geochemical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processes: erosion and volcanic activity release carbon dioxide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3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Mixed 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biogeochemical processes: burial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decomposition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of dead organisms and their conversion under pressure into fossil fuels stores carbon under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4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Human 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activities: mining, burning forests and fossil fuels, release carbon dioxide into the air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595944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All organisms need nitrogen to mak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amino acids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-which link together to form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proteins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.  Nitrogen occurs in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atmosphere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as nitroge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gas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, as ammonia N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entury Gothic"/>
              </a:rPr>
              <a:t>3 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and as charged ions in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waste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of organisms and dead and decaying organic matter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Most of the nitrogen is in the atmosphere (the air =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78% 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nitrogen gas), but most organisms cannot use this form of nitrogen directly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Bacteria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fix nitrogen by converting nitrogen gas into ammonia so that other organisms can use it in a process called nitroge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fixation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3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301320" y="19810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Warm Up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Notes- Cycling of Matter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Relationships in an Ecosystem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Ecology Station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nishing Pyramid Models &amp; Question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ean Up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ool Dow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Nitrogen gets put back into the atmosphere when other soil bacteria convert nitrates into nitrogen gas i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denitrification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392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3" descr=""/>
          <p:cNvPicPr/>
          <p:nvPr/>
        </p:nvPicPr>
        <p:blipFill>
          <a:blip r:embed="rId1"/>
          <a:stretch/>
        </p:blipFill>
        <p:spPr>
          <a:xfrm>
            <a:off x="298440" y="-7920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0" y="9907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hat is nitrogen fixation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hat is nitrogen denitrification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hy is nitrogen fixing bacteria necessary for human’s survival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2286000" y="3108240"/>
            <a:ext cx="47242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3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301320" y="19810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Warm Up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Microscope Part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alculating Total Magnification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Microscope Lab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Illustrating the Water and Carbon Cycle with Explanation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ean Up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ool Dow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tudent of the Week is…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1882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Microscope Part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alculating Magnific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otal Magnification = Eye piece magn.   x   Objective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       lens magn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228600" y="5715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”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"/>
          <p:cNvPicPr/>
          <p:nvPr/>
        </p:nvPicPr>
        <p:blipFill>
          <a:blip r:embed="rId1"/>
          <a:srcRect l="3310" t="0" r="5104" b="0"/>
          <a:stretch/>
        </p:blipFill>
        <p:spPr>
          <a:xfrm>
            <a:off x="4800600" y="0"/>
            <a:ext cx="4343400" cy="38926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0" y="2666880"/>
            <a:ext cx="4889520" cy="41911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5"/>
          <p:cNvSpPr/>
          <p:nvPr/>
        </p:nvSpPr>
        <p:spPr>
          <a:xfrm>
            <a:off x="152280" y="152280"/>
            <a:ext cx="358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e each cycle on your paper. At the bottom, include at least three sentences explaining each cy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3"/>
          <a:stretch/>
        </p:blipFill>
        <p:spPr>
          <a:xfrm>
            <a:off x="4876920" y="3471840"/>
            <a:ext cx="42670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RAFFLE!!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uided Notes 5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Unlike the one-way flow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energy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matter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is recycled within and between ecosystems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Elements, chemical compounds, and other forms of matter are passed from one organisms to another and from one part of the biosphere to another through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biogeochemical 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ycles.  Matter can cycled because matter is not used up, b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transformed.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Water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Cycle- Water moves between the ocean, atmosphere, and land. 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26" name="Diagram 1" descr=""/>
          <p:cNvPicPr/>
          <p:nvPr/>
        </p:nvPicPr>
        <p:blipFill>
          <a:blip r:embed="rId1"/>
          <a:srcRect l="-19827" t="-332" r="-19827" b="-691"/>
          <a:stretch/>
        </p:blipFill>
        <p:spPr>
          <a:xfrm>
            <a:off x="2057400" y="2819520"/>
            <a:ext cx="5029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42636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4:14:58Z</dcterms:created>
  <dc:creator>Owner</dc:creator>
  <dc:description/>
  <dc:language>en-US</dc:language>
  <cp:lastModifiedBy>Angela Gorney</cp:lastModifiedBy>
  <dcterms:modified xsi:type="dcterms:W3CDTF">2011-01-31T12:42:46Z</dcterms:modified>
  <cp:revision>35</cp:revision>
  <dc:subject/>
  <dc:title>Cycles of Matter</dc:title>
</cp:coreProperties>
</file>